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C69-FB05-4C9F-B025-D818ED85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C14-EE3C-49F0-A425-2A7DA831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2E6-19C7-4330-891B-D8E87F27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276-E0C7-4F71-8C05-3E615FA4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755F-EA69-4BD9-A73D-7743B098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0422-D3CE-4B20-8053-CD2EC0B5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6E2D-6CD0-4313-9D68-93392E65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2FD0-25B2-456E-BCAD-DAE59754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0C83-F9A2-486D-95B8-B198D8D9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C3F6-6F15-492B-96DA-4D3A52E5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EF92-FEE6-4592-A73F-41A1CC7C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2BE-F147-409F-9960-CF943AE0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392C-6BEF-4FDB-BB59-4778A6EA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9E72-1980-4069-A651-4A5F3147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A6B8-F6CB-4DEF-B271-81F4317B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DAF6-F0B7-4B56-895F-25D7B893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9E7B-FF80-408B-99FC-470F2AAD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B9DA-8568-4E2E-BE57-D33A2B83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EB65B-983D-495B-B20C-D752FF1F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128E2-3EEF-46CC-B4C0-0D542CE9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5B6D9-0C77-456D-B0CA-61B3AAE9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012A-9F1C-4C8B-8069-CF17F6C2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B6C-8FF3-46C0-97F2-4A481087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5F44B-2675-4B03-AEB5-1A537EA7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0484-F918-4152-B7F1-BD8A42F8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84CA-207E-4FCA-BA83-F9DD39C1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985E-8A54-43A6-9F0C-99D87B4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755D-8C28-4526-9755-4BC6497F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E95A4-796B-4CF0-88E8-DCA6A521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9649-2FBD-4380-82B2-13BD2D2E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32668-4902-4882-B171-9B3416A2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91F09-0F17-4F61-89F1-58631BAC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CDBBD-26CF-4B82-BE9B-14973C2F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7CF-DC47-4E42-9F35-0CDA6ACB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0090D-C436-4AA4-9D05-BD019797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41CB5-09DA-47B9-B137-FF70A1A0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AFEEF-9417-4D39-A635-CC38ED72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BF0B4-C060-45CE-B53E-B164B33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14FE-5EB7-4921-9FAD-4A2CA91F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6152B-FADA-4C7E-86FC-BD599BB0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B0C30-1122-4815-AA2D-CFEE640E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AA64C-739D-4F4F-8401-7A5D6987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1514E-1C6D-4B83-ABB6-46C161DE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6B91-7188-430F-A058-6F755145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A74-2434-40C6-97C6-3C46063C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52159-AF6A-4A1A-9808-B6826AB7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6853A-1EBE-4520-AED3-55872AA4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63B3E-3B6A-40E4-9F67-E6A7DB72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7BA5D-434F-4FEE-9C06-88D420AA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94D34-EF95-4795-9DAB-023A61EC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7D7A-D734-43CD-8756-D849755A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89E6D-BE24-4F28-9D0E-6F97EAAD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9489A-6C67-4840-B366-408E65CB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8E26F-AEF9-41A7-85E4-9223843F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B20AA-5113-48E9-90C3-D7AE8218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9CB-96E5-43ED-AC71-C3D0F30F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8F00-BB7E-41F7-9FB2-0FCE01A3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725AD-3625-41E2-9A97-0277551C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E1F19-417B-41BF-86E4-E1F7DE7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23F49-6F43-41A2-9BFC-68ECD997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30C0-1565-45F3-8B6E-17B15284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A12E9-07D5-4638-A50D-17BB7ED9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95E3-12E1-45B1-A2F5-7176723A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F3A17-687F-4852-8D66-85675E8F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FE8B0-C883-45A6-927F-013510A2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E5468-D4B3-4E46-A0FC-95989A26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F9C-095F-48D5-A489-D44E7673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E548A-66C6-48D4-BEF9-CCDE1EEB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06091-8BD6-4122-A6D4-61D8A212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0FC97-A950-476F-92EB-3404B207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A97B3-5D91-4034-BAEE-368364C0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13159-08D9-4F18-BEEC-D63682AE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58317-6E7F-4EAC-9732-2C9D812D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149D9-6857-435A-890F-ED1A2C20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70C40-94C5-4B60-AFB8-E00DEFC7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22440-E072-4DD0-B29C-685CE649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FEE80-EC21-468A-85C1-01B4597C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87E-4399-474D-94E9-2E970AA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632C-982B-41EA-B63A-94E5972A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BCB97-67F7-4E85-80DF-B15D3200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C97CA-7971-4F58-BBC0-A4B8494A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FF560-B528-4EB2-86E4-D42C2071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9E9B9-04F1-48AE-AFF6-3E214A21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573-1E0E-44D0-B0AB-32814DB7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CAA9-90B9-4BDB-BA35-BD352DD569D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8E1F-A3B8-4419-B7F0-93D713BCBF1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7025-B504-43C0-B036-5C07A4DDDDE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3A39-BAFF-4AEF-ACB2-4176B62BCDE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E400-7AA3-4932-8BD3-91E0D3846F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1A7C-EDA9-44CD-90FF-E64B18F826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CA84-E741-439B-8DBB-9408C77DDF4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2"/>
          <a:stretch/>
        </p:blipFill>
        <p:spPr>
          <a:xfrm>
            <a:off x="1060560" y="1500120"/>
            <a:ext cx="8083440" cy="19558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1476360" y="115920"/>
            <a:ext cx="71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835280" y="5516640"/>
            <a:ext cx="70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&amp;Dcy;&amp;iecy;&amp;tcy;&amp;scy;&amp;kcy;&amp;icy;&amp;jcy; &amp;scy;&amp;acy;&amp;dcy; 2413 16 &amp;Mcy;&amp;Acy;&amp;Rcy;&amp;Tcy;&amp;Acy; &amp;Vcy; &amp;Rcy;&amp;Acy;&amp;Mcy;&amp;Kcy;&amp;Acy;&amp;KHcy; &amp;Pcy;&amp;Rcy;&amp;Ocy;&amp;IEcy;&amp;Kcy;&amp;Tcy;&amp;Acy; &quot;&amp;Mcy;&amp;Ocy;&amp;Scy;&amp;Kcy;&amp;Vcy;&amp;Icy;&amp;CHcy;&amp;Icy; &amp;Scy; &amp;Rcy;&amp;Ocy;&amp;ZHcy;&amp;Dcy;&amp;IEcy;&amp;Ncy;&amp;Icy;&amp;YAcy; - &amp;Zcy;&amp;Acy; &amp;Bcy;&amp;IEcy;&amp;Zcy;&amp;Ocy;&amp;Pcy;&amp;Acy;&amp;Scy;&amp;Ncy;&amp;Ocy;&amp;Scy;&amp;Tcy;&amp;SOFTcy; &amp;Dcy;&amp;Ocy;&amp;Rcy;&amp;Ocy;&amp;ZHcy;&amp;Ncy;&amp;Ocy;&amp;Gcy;&amp;Ocy; &amp;Dcy;&amp;Vcy;&amp;Icy;&amp;ZHcy;&amp;IEcy;&amp;Ncy;&amp;Icy;&amp;YAcy;&quot; &amp;Pcy;&amp;Rcy;&amp;Ocy;&amp;SHcy;&amp;Lcy;&amp;Acy; &amp;Vcy;&amp;Scy;&amp;Tcy;&amp;Rcy;&amp;IEcy;&amp;CHcy;&amp;Acy; &amp;Scy; &amp;Icy;&amp;Ncy;&amp;Scy;&amp;Pcy;&amp;IEcy;&amp;Kcy;&amp;Tcy;&amp;Ocy;&amp;Rcy;"/>
          <p:cNvPicPr/>
          <p:nvPr/>
        </p:nvPicPr>
        <p:blipFill>
          <a:blip r:embed="rId3"/>
          <a:stretch/>
        </p:blipFill>
        <p:spPr>
          <a:xfrm>
            <a:off x="1547640" y="3500280"/>
            <a:ext cx="1368720" cy="1729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&amp;Mcy;&amp;acy;&amp;tcy;&amp;iecy;&amp;rcy;&amp;icy;&amp;acy;&amp;lcy;&amp;ycy; &amp;zcy;&amp;acy; 03.08.2011 &quot; &amp;Scy;&amp;tcy;&amp;rcy;&amp;acy;&amp;ncy;&amp;icy;&amp;tscy;&amp;acy; 128 &quot; &amp;Ocy;&amp;bcy;&amp;rcy;&amp;acy;&amp;zcy;&amp;ocy;&amp;vcy;&amp;acy;&amp;tcy;&amp;iecy;&amp;lcy;&amp;softcy;&amp;ncy;&amp;ycy;&amp;jcy; &amp;pcy;&amp;ocy;&amp;rcy;&amp;tcy;&amp;acy;&amp;lcy; &amp;Mcy;&amp;icy;&amp;scy;&amp;tcy;&amp;iecy;&amp;rcy;&amp;Gcy;&amp;Icy;&amp;Dcy;"/>
          <p:cNvPicPr/>
          <p:nvPr/>
        </p:nvPicPr>
        <p:blipFill>
          <a:blip r:embed="rId4"/>
          <a:stretch/>
        </p:blipFill>
        <p:spPr>
          <a:xfrm>
            <a:off x="4211640" y="3645000"/>
            <a:ext cx="1576440" cy="1655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&amp;Pcy;&amp;Dcy;&amp;Dcy;. &amp;Ucy;&amp;chcy;&amp;iecy;&amp;bcy;&amp;ncy;&amp;ocy;&amp;iecy; &amp;pcy;&amp;ocy;&amp;scy;&amp;ocy;&amp;bcy;&amp;icy;&amp;iecy; &amp;dcy;&amp;lcy;&amp;yacy; &amp;acy;&amp;vcy;&amp;tcy;&amp;ocy;&amp;shcy;&amp;kcy;&amp;ocy;&amp;lcy;. &amp;Vcy;&amp;ocy;&amp;zhcy;&amp;dcy;&amp;iecy;&amp;ncy;&amp;icy;&amp;iecy; 2011, DOCX, PDF, MP3 TORRENTS.TJ"/>
          <p:cNvPicPr/>
          <p:nvPr/>
        </p:nvPicPr>
        <p:blipFill>
          <a:blip r:embed="rId5"/>
          <a:stretch/>
        </p:blipFill>
        <p:spPr>
          <a:xfrm>
            <a:off x="7020000" y="3213000"/>
            <a:ext cx="1457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1" descr="2_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4:44:21Z</dcterms:created>
  <dc:creator>admin</dc:creator>
  <dc:description/>
  <dc:language>en-US</dc:language>
  <cp:lastModifiedBy>эльдорадо</cp:lastModifiedBy>
  <dcterms:modified xsi:type="dcterms:W3CDTF">2020-05-06T17:24:14Z</dcterms:modified>
  <cp:revision>9</cp:revision>
  <dc:subject/>
  <dc:title>ПРАВИЛА ДОРОЖНОГО ДВИЖЕНИЯ</dc:title>
</cp:coreProperties>
</file>